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ACC0-B6DD-4076-A43B-5F7938102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1598-3CAB-472F-BA68-587AD6A69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DAF4-74C6-40CA-A573-C5F8013C8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9CC5-A843-47D3-AF8F-146D375B0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9574-BB77-4766-AC26-6B26C48A2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5EAB-F8A4-4FD0-917F-B062FDEAC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DEE0-4B84-42C3-83EA-E8E4E0070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BBB3-3ACB-4E17-B6CF-2275E7015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DADC-F668-42BD-A7BC-7F8083C5F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7605-0E3F-432A-AAB3-9F79E7676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0503-7FDF-490C-887B-DF9FA5EF6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77E8-B37E-4691-B3B5-27F7BDAAA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D459B5-C01C-46A9-AE83-30D3040150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886932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Knowledge representation</a:t>
            </a:r>
            <a:br>
              <a:rPr sz="4800"/>
            </a:br>
            <a:br>
              <a:rPr sz="48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cture 2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lain simple data: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lations between databases and log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3280" y="4571640"/>
            <a:ext cx="9097920" cy="2141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. Tammet, T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cture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resher of 1st order predicate log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ning of data in data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bles as predicates: straightforward enco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ries and joins as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al objects and features: multiple rows, nu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coding structures in db-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b keys as a way to encode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d calculus example 1: prolo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5529240"/>
          </a:xfrm>
          <a:prstGeom prst="rect">
            <a:avLst/>
          </a:prstGeom>
          <a:noFill/>
          <a:ln w="0">
            <a:noFill/>
          </a:ln>
        </p:spPr>
        <p:txBody>
          <a:bodyPr lIns="0" rIns="0" tIns="13680" bIns="0" anchor="t">
            <a:normAutofit fontScale="99000"/>
          </a:bodyPr>
          <a:p>
            <a:pPr marL="3394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Dat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father(jan,pet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father(jan,martin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father(martin,matt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father(frank,mary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other(mary,mik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Ru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grandfather(X,Z) :- father(X,Y), father(Y,Z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grandfather(X,Z) :- father(X,Y), mother(Y,Z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Queri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? father(martin,mik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? father(jan,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? grandfather(X,mik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d calculus exampl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other(jim,pe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all X,Y (bother(X,Y) =&gt; brother(Y,X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all X,Y (brother(X,Y) =&gt; man(X)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ry: man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s: man(jim), man(pe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d calculus with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5091120"/>
          </a:xfrm>
          <a:prstGeom prst="rect">
            <a:avLst/>
          </a:prstGeom>
          <a:noFill/>
          <a:ln w="0">
            <a:noFill/>
          </a:ln>
        </p:spPr>
        <p:txBody>
          <a:bodyPr lIns="0" rIns="0" tIns="136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Dat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father(pete)=j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father(martin)=jan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father(matt)=mart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father(mary)=fran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other(mike)=ma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Ru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grandfather(X,Z) &lt;- father(Y)=X &amp; father(Z)=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alternative: grandfather(father(father(X)),X)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grandfather(X,Z) &lt;- father(Y)=X &amp; mother(Z)=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alternative: grandfather(father(mother(X)),X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ds in logic have no mea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5091120"/>
          </a:xfrm>
          <a:prstGeom prst="rect">
            <a:avLst/>
          </a:prstGeom>
          <a:noFill/>
          <a:ln w="0">
            <a:noFill/>
          </a:ln>
        </p:spPr>
        <p:txBody>
          <a:bodyPr lIns="0" rIns="0" tIns="136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Dat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foo(p1)=j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foo(m1)=j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foo(m2)=m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foo(m3)=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bar(m4)=m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Ru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grm(X,Z) &lt;- foo(Y)=X &amp; foo(Z)=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alternative: grm(foo(foo(X)),X)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grm(X,Z) &lt;- foo(Y)=X &amp; bar(Z)=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alternative: grm(foo(bar(X)),X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7T06:45:51Z</dcterms:created>
  <dc:creator>Tanel Tammet</dc:creator>
  <dc:description/>
  <dc:language>en-US</dc:language>
  <cp:lastModifiedBy>Tanel Tammet</cp:lastModifiedBy>
  <dcterms:modified xsi:type="dcterms:W3CDTF">2011-02-07T08:30:34Z</dcterms:modified>
  <cp:revision>1</cp:revision>
  <dc:subject/>
  <dc:title/>
</cp:coreProperties>
</file>